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97B3-8E43-485D-88AD-4F3B57D4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ghh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5A7-BCD6-4E02-AE78-1A75D41C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06D-CF22-45C8-AE55-D2A88D9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5A2-BD83-4A48-B9CF-CF5851F4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BC5-21B7-4F70-921A-7B27F35F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BD9-A319-4242-9599-D14862CC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1D3-03E3-4F29-A41C-D6396D6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A7AF-AB80-4098-A289-1E77B871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47B-3F94-430F-AAC6-5C33B095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7DD7-28A5-42B9-9542-336A691A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23C-0EA0-4212-AB16-C4EDA4CE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9B48-036E-4424-9ACC-7D896CC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E8A-8FDC-4FD9-AC85-2CBFE64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1DC5-9B89-4199-ABD6-D2C3D5B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E755-0F66-48F0-83F3-CD08443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02F8-2801-42F6-9A4A-B34ED01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CB7B-FC1C-4794-9E3A-675F2A3C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C032-4AF2-40FE-B122-B4CF6291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495-1450-426A-BA44-FE157433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B06-C579-44D5-9EA2-A2FC40A0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9BCE-CC25-48A8-BFC7-F6FBFD6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2C7-63F5-4CB7-9785-52D863A7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F68-1629-49AC-B400-0F73E7E6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A67-5BB5-4B0B-A31F-49BEEFF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FF5-9015-4EF4-9FBE-1F158FC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57A8-C0DA-402A-94F6-E6E1C45D31D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6AB0-12ED-4E42-9416-4E5C7AC47E1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Marcell and Chr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number written with the bottom part [the denominator]telling you how many parts the whole is divided into, and the top part (the numerator) telling how many you hav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Asc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1840" y="3246480"/>
            <a:ext cx="868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nged from smallest to Largest.Increasing.These number are in ascending order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0:37Z</dcterms:created>
  <dc:creator>Christopher.Brooks</dc:creator>
  <dc:description/>
  <dc:language>en-US</dc:language>
  <cp:lastModifiedBy>Christopher.Brooks</cp:lastModifiedBy>
  <dcterms:modified xsi:type="dcterms:W3CDTF">2010-11-23T19:49:57Z</dcterms:modified>
  <cp:revision>4</cp:revision>
  <dc:subject/>
  <dc:title>Vocabulary</dc:title>
</cp:coreProperties>
</file>